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4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3E98-F71A-4E7C-B155-C48FD0432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8D28-90DF-403B-828B-21191D05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69CDB9-2812-4156-A2F7-6A483594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339EE-11FB-4987-BB1A-44C77A41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C2E6F-D8A5-42DF-A433-E05899B6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C0062-B178-4A08-8698-D99F0FFF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12BB6B-4639-418E-A671-018B2557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1E5DCA-2D88-4A2C-AE2D-28E35655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7CCBE-D4E1-4627-9924-2E0E836C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54F39-72C7-40C0-84AC-8492C8C0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85D09-545A-4CE7-A393-96F01C19B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FBD078-0AC5-4522-9357-8EA856026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C86D-3C11-419D-9649-4ACF026C6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84DD5-9346-4268-B6B7-8140BEC1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8705C4-13A4-4C02-A03E-E008AD98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8B5F2C-5C41-4CD8-B78D-BE5505B8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58304-B68B-49E5-81D7-AD72A775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53FCB-8D7C-40AC-A5CC-262AAC9F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5215AC-FF11-4C13-BA45-76CD0794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871B0-514C-4D20-9AA8-C81A238E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32CA2-5519-46CF-8772-DBE545E1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BF516E-10EB-474C-9272-090963F8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88219F-22C1-4A95-BE74-4213685AE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CD7A-6310-4DEB-B097-E50ACF28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6815D5-31A6-4E28-B3D2-82CCF7641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2AD26-602D-4B3F-BBF9-1498E274A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F2AFC-13C1-4C5A-88BE-CEA71AED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4B85C-46CB-46C5-94EE-305675EA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E6908-700E-4BEA-ADC6-855425CB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8995B4-D496-4E97-82BF-48578642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EC42C-F788-4EDB-AB88-251AD305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62CC5-0670-4211-BB29-C715ED0F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E7D56-1B31-4FFD-B7E9-B03C4ABF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D254A-B51B-47FC-873F-343D7551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EBD0-6A6B-4CD6-8B45-97956A601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CBA33-E13D-4365-8346-319C32A2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757DB-A32A-43DB-9D30-7B4F052F8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660B8-7A32-4EBC-99DD-850B87B63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3020D4-D0A5-4381-B38A-2A33B8FB8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22D9AB-F887-4258-9B3D-3EE855B7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AB1CDE-3800-4266-A9B8-3039A5EE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BB2AA2-6E93-47AC-BA58-BF137CC8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E49EA5-A22B-4FE3-A13A-40D2F25C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704C3D-DBA3-4E31-ADB4-7EBC0AEB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648AF8-F623-414F-B7A4-E5CF0422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5DAC-AD2D-44A1-BE3F-79DEAAA2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A11C38-C5F6-4715-8F93-48792A7F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12E1B7-E67E-44B3-98C8-923EE864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9485EF-210A-4BED-87C6-AFF048A6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711DD5-89E3-4C67-B849-F06E01C6D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15A7EF-A956-4944-9DD4-336DEFBA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A8A5BD-5BA4-40F8-8DD5-42CD9F9BC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47AB03-1C7F-4185-8663-FA32853E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EB4F56-F7BD-4FBF-842C-93F9F741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8BEF9E-F20A-42AC-9607-EEFD7874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E85DA9-8AE5-41B1-B1DA-BC3DF226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F725-946B-401A-A09C-92F12BF4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CC1CD6-C1AF-4A33-9EF8-4E4EC806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9B276F-6D29-4F0A-8358-726F3DE7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DDBA94-F4E6-4388-B4C3-D915B177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855046-45DE-4A81-BFF1-8EE0ACF3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8EE314-AC0C-4F0B-87C9-1D351B3D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55078A-A750-478B-82AC-ABF7868F2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194758-F4D7-4B2B-81CD-4E0AF8C73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46565E-58D7-413E-B7CB-CF72B53B5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9BB632-F777-484F-B85F-ACDE93BC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0AC102-59D5-4999-AC14-FF7B7933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C735-60C0-44B3-B1F6-1E6F363C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28F7B9-2817-4838-824B-D9EA1455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404383-01A5-462A-B832-CA685457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D21E89-8C89-4CEC-B7A5-625A0547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509907-540F-41B9-AC83-6B351EB4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15A08B-4C15-4C35-898A-C624AD9F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FD3F64-5502-4547-BDED-8C99AF39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CC1EC5-F636-43C1-BB9C-F9F7C43F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3323CB-5D22-4833-9B4E-CAF99A152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B60399-9ABD-41AC-8106-D8E3FB632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11E708-7189-4972-B9FC-2CD95A8F1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DF3F-DEAF-4292-A68D-3097A205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C4C601-A271-4319-8327-4E455A90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8B9E04-DCAC-4632-9045-2E3FA988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D5CF58-8391-4454-993D-0BC3F27F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45E49B-1DE0-4E01-A183-B90A4DE2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DF5B3B-87E7-49FB-9AA5-B01F743A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3B03B4-95D4-459D-8A8F-E98924F3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A97A3B-1734-4C8E-99B5-0CA05412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3CD65F-6681-4EEE-8D7B-74570022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A75264-BDA1-491F-825F-A7B3E49A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BD3164-1E6B-428A-8DA8-6ECA85DC5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2441-75D9-4AF4-A9EC-11766D3B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4797A8-2692-4BE4-B503-A9E5416B6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E970F6-BBA3-43C3-8887-E2B119013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634022-A595-4C51-B5E6-F4500E62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CEDB0E-6501-4B5D-AA40-9090844C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CA8134-D82D-4F6B-89E5-DBCBE85E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C8517A-FB8C-4E5F-9C42-DDCB513F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107D0D-B4E0-4875-B0CD-48289670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5D2C1E-127B-4026-A650-F0B3EB9C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3A9B6A-0B37-4A74-8AFC-C8869735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9F2885-224D-475E-BE02-BA8FEF24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D732-A105-4337-812D-E0A752A8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680F93-A0DB-43CF-87C3-564D3A0B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3C9120-4BC5-4803-9614-2BBCCCEE5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501D70-B031-4120-92C2-B9825E8AC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D7271F-6877-43CE-9854-80186766C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912A51-5BEF-4C97-9FE7-C238E3BC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679504-8188-41B5-BC0C-0BAE1678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E79D1D-26E7-431E-AA82-9C2A8846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66D23A-9E8F-43AE-8E96-F2E48F41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CFF303-7AE3-4B6C-9ABC-40F85EB3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DA386F-56B2-4DE0-A07E-C13FAE82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32D3-1950-408F-9044-C066C42F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3FB7-40C7-479B-83D4-146ED3EC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98E82E-41B8-458B-B4E3-4DB97CA7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C5F1EB-5A79-4B1F-8F5E-588C6450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0BD05C-7097-4180-AF2F-6581E31D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90D347-CEF8-43C2-AC1F-9B96DBA67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761145-CCCB-4DFF-A989-DC3DD1E5E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1DB94B-7250-457D-8518-6E91EFA38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691E2C-887A-4C3F-88D6-0CB50FBF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52EB03-6896-4994-BCD3-D927FD22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F347DB-CC8C-4813-A320-2CB8570F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8D6B9D-2DED-4A73-93D8-5328056D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B453-59D7-4C74-9367-0EA72099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1D4D97-F403-4B8F-A985-BA2F08F9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4DA515-1BCC-467F-8575-D20F18D3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BC830A-D88B-495D-8C33-0CA64BE6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D5CDA0-63B2-415D-B709-4A12F99B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EE8AA1-855A-4DB4-97D8-207F2C02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9B4F4E-DB72-49D1-B989-573D7F878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C6F455-D6BA-4DF1-8105-F38D3DD52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42A80A-3400-453F-A401-2132D2411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BFA20C-D76E-4CB7-992B-A83EE0EF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01E0DD-9E4B-4998-A0E0-FE311A91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EBF4-A759-491E-9CCE-89809E72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27A6A6-6C3A-4269-BEAC-6EE98CF0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9EF608-6628-44A7-B3A4-AD629BE6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0C0AC7-A780-4F43-A649-47E4A027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CDC988-E591-4365-90BF-8A968AE9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3ED828-8BDD-4852-9DEB-E6F628B5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784D00-6754-422B-BC79-B0C7B768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87D3EC-08F2-48C8-B088-5F74D9F2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8F2785-0421-480E-B039-23853E048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BF7846-188C-45DB-B9B2-7850EEA00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23E7-8D09-4D26-9138-21D661287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8C46-43AE-444F-8FB6-3F3D9AFE6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E76F9-02DB-47C3-A1AB-9E6CE72E8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24727-3B98-47BD-814F-3A053E5B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BEF67-BAA4-4CAB-9C05-5054F347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924E0-86FC-46BF-BAC1-B202F2EE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D368F-F1D7-4B89-AEC9-721CD34D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9CFE-AB17-4858-8B4E-EF5CA1D1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E3E65-2D2A-4E3D-8CF5-EFC92E0A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F9259-2E02-4B07-B81C-657A1B03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33111-08AC-4E21-8FB6-21130AEB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719BC-D60A-4597-A46E-DEC42FF1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9E8D0-8976-42C5-837D-05C8482B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D42E8-4C99-4744-8C87-51CD33879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A26BF-A794-46D2-932B-58DF40770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C59CB-43C0-4020-9919-B415E8C76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9AE28-6B6D-429D-9CBF-75476AEB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DD7EF-0BFD-45DA-A5C6-80873C30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854C-AB40-4E17-9BCD-98EBB35D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6F750-2C00-4A05-91A0-9B1F3DF6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C7E46-DE20-44ED-8C3A-FE78A058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7BDFA-C203-442C-9601-6B35841A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F52A5-233C-466E-A07C-2B469CBE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488A7-B8E1-49D8-80DE-434BD4F9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FCE1D-4585-47A8-997E-9A64808E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01D11-613F-4A5E-94DB-9C6B091D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8C41F-1D78-4864-8F08-13E998A8E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C94DE-DEBB-4DC3-88EB-E6C0EBA40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76515-0A24-4FFD-A325-319FD0A20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2F38-F007-447E-81D7-B2F71524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95EF4-713F-4240-AE5E-EA600079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8CEB3-E359-4A7E-B4C9-21D5E6B3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CA059-C1FD-4956-905F-5D44CD35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01035-8E4A-4478-9CC5-3E5E9C63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B5EAF-6F3D-473C-8881-CC9FE680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56E1C-AE06-48C3-8F70-F0EFB076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3DA8B-25AE-440A-B9D8-3CFBC6E8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0991C-9D39-4C55-B971-24D03C07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69C60-AEFD-4448-91E2-86E1F98A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BC79F-FCC0-4284-B040-C874EF239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C262-0395-434A-A75F-128B0100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6A7F6-498D-4EF8-A617-293D94C93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E2A0F-3AFF-4889-8D5B-78B55BC1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93FFC-D6CA-4E3D-AA50-36A59AFD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46169-BBE2-460E-AA36-F9584205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0D7E8-2555-475E-B823-4F5B9EA1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A2159-72DC-421F-8904-770C4908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B5FD4-D1D5-4846-9698-458DD19D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F9A50-2DCF-44CF-B075-6E89EC32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F9B50-0A31-4E11-BC4D-CECEDB9B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A42AE-9FB5-49F1-82EF-6B0B7C8E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B4B3-F320-45B7-A513-00C895D3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6F0BA-DE2D-416D-B597-8FD720D1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1BB08-B0E6-45C6-A209-3069FC7E5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98115-E9B2-4CD3-9BD1-84EC014B8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4A59D-F41D-4A26-B6E0-DA23A097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B532A-600D-45E8-A584-939B189D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1C21D-EBF9-4918-B3DE-F9E97EE6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499B9-2CF0-4E5F-B502-60E0C9B3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BC2A7-C103-47BE-97CE-462A4375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ED8BA-1916-46C1-A2FB-9FF72AD0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61CE5-F8A5-490D-B8A5-0A4846FE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FD85-06E7-47ED-A64D-929EE1FC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23BFF-F85A-42D5-9218-DF9E730A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5A604-88C9-4433-BEE9-A5C21531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2475F-55BC-4D89-827A-79E1A1B5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436AF-9D52-4275-85C1-4F70C8884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D762E-617A-4BCD-B2EE-BCCE63D7F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B0237-9002-4111-9CFE-BE4992BE4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539EE-0DE0-4E77-91B4-92B2ACC6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B2C9A-5869-4299-9A60-1975B5B6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8449A-FE3D-43E9-B546-3A84A468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37992-8A8B-4B9A-A0D1-1F806E1E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3BE9-55AB-4130-9E81-85B14D81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CA5F1-7D17-49EC-A438-5AE1A0A7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AA448-68F3-4806-9387-9A8FD981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5BF49-7552-4DF0-ADD3-AA69633C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89FBF-CB97-4E35-8BEB-71C339D7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C7A58-34EF-4851-BA0F-7E21CD8C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7C5C2-5C30-4D53-80C8-5C12C7A6F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1096C-F5EC-4945-AD75-0BA816A74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E76A8-962B-45FC-884A-AE7007C74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BEF000-BB91-44AF-AE45-870B2C02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9C805-3217-47C3-A3F0-2EC18060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3D5F-DE91-488D-BFFF-15B8551F44EB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C6A6-F0BE-4E37-9174-79639A6053A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06CD-1898-4D2E-A280-C3670603B0D6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81D4-7A8C-4AFF-B028-95ABF503CCD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23B7-8219-4E32-A38D-7208E84C895C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99E8-62FA-4821-BA5E-BEAD12C92F9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51DF-E95F-453B-8286-BDC6D9B08668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A250-E424-4A34-B728-E764B72B16F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B57D-D745-4F25-98CA-34C1E54C52EC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EE0E-7D86-4C93-A007-BD651482C52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4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6801-938A-4D66-AF64-2162F5E3B51F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4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4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AA9E-FA14-4F02-A3B6-AA098C2F8D5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61D9-063A-4CB3-AAF9-709D6C40D550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18D7-99F8-4788-B016-9E07DF39108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4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64FF-8CC1-4547-99DB-20FFED221DD4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4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4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4823-9B31-4472-80EF-326D1CB877E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dt" idx="4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21FD-D238-44D4-BF44-3D9865F847CF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ftr" idx="5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sldNum" idx="5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C13F-F5EC-42F9-830F-B16E1515FF1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5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75EE-342D-4762-9ADA-525C8CD24F9B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5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5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D246-C7E3-45A2-A39A-0E611B9BA0D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5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110F-576A-4E68-9C4B-154A465833FF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5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5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8185-8527-4E4F-9AF7-1AFD5578FEE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8808-0364-4D28-97E0-D72FC5B209E3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2724-8E28-412D-81A3-9B3D4B22CF2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674C-0DE5-4E59-8D2D-36801DA5812D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3BDA-492E-45FA-858C-E692FB9E1F3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1542-5EA4-4367-AE36-15E3341E0DC5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FB5C-AFFF-4616-92B2-99308EF89F5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4186-10AC-400F-B3D7-0B82BBC79DD6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35C9-BD06-472B-B1FD-75F29061D74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C79F-474F-430E-8FD9-28C62AC7D73E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8C7E-01C8-440A-8AA0-11A15A60147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DB75-7F18-46C8-84A1-F7C391E57FD6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BCA3-B294-46E1-96FF-723B881CA3E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A3B7-2BB2-4127-930F-52D71F865576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47A1-B126-4F8D-99F2-6228A43E41D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13E1-C2CA-4E89-A727-8729EE66F2D0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7AB0-CD9F-476B-BAE7-250DE30C47C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8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02A3-DAF1-4DBE-B81D-13544749E91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0" name="Picture 4" descr=""/>
          <p:cNvPicPr/>
          <p:nvPr/>
        </p:nvPicPr>
        <p:blipFill>
          <a:blip r:embed="rId1"/>
          <a:stretch/>
        </p:blipFill>
        <p:spPr>
          <a:xfrm>
            <a:off x="495360" y="351000"/>
            <a:ext cx="8153280" cy="61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6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8522-A28A-4CD6-B94D-C29B355B7D4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932360" y="188640"/>
            <a:ext cx="420696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 Narrow"/>
              </a:rPr>
              <a:t>ETAPAS INICIALES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5219280" y="981000"/>
            <a:ext cx="3924360" cy="50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Hasta la formación de 3-OH-3-metil-glutaril CoA </a:t>
            </a: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NO ESTÁ COMPROMETIDA A LA SÍNTESIS DE COLESTERO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(similar a la cetogénes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reducción para formar </a:t>
            </a: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MEVALONAT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es la etapa crítica que compromete a la formación de colester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o todas las biosíntesis, consume NADP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9" name="Picture 7" descr=""/>
          <p:cNvPicPr/>
          <p:nvPr/>
        </p:nvPicPr>
        <p:blipFill>
          <a:blip r:embed="rId1"/>
          <a:stretch/>
        </p:blipFill>
        <p:spPr>
          <a:xfrm>
            <a:off x="179280" y="297000"/>
            <a:ext cx="4916520" cy="6372000"/>
          </a:xfrm>
          <a:prstGeom prst="rect">
            <a:avLst/>
          </a:prstGeom>
          <a:ln w="0">
            <a:noFill/>
          </a:ln>
        </p:spPr>
      </p:pic>
      <p:cxnSp>
        <p:nvCxnSpPr>
          <p:cNvPr id="880" name="6 Conector recto de flecha"/>
          <p:cNvCxnSpPr/>
          <p:nvPr/>
        </p:nvCxnSpPr>
        <p:spPr>
          <a:xfrm flipH="1">
            <a:off x="1331640" y="4796280"/>
            <a:ext cx="1242000" cy="108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arrow" w="med"/>
          </a:ln>
        </p:spPr>
      </p:cxnSp>
      <p:sp>
        <p:nvSpPr>
          <p:cNvPr id="881" name="9 CuadroTexto"/>
          <p:cNvSpPr/>
          <p:nvPr/>
        </p:nvSpPr>
        <p:spPr>
          <a:xfrm>
            <a:off x="2576160" y="46432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Times New Roman"/>
              </a:rPr>
              <a:t>Estatin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4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895C-E496-4550-AA8B-A3EB9E54D08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3" name="Picture 2" descr=""/>
          <p:cNvPicPr/>
          <p:nvPr/>
        </p:nvPicPr>
        <p:blipFill>
          <a:blip r:embed="rId1"/>
          <a:srcRect l="3272" t="0" r="0" b="0"/>
          <a:stretch/>
        </p:blipFill>
        <p:spPr>
          <a:xfrm>
            <a:off x="2771640" y="361800"/>
            <a:ext cx="6108840" cy="6162840"/>
          </a:xfrm>
          <a:prstGeom prst="rect">
            <a:avLst/>
          </a:prstGeom>
          <a:ln w="0">
            <a:noFill/>
          </a:ln>
        </p:spPr>
      </p:pic>
      <p:sp>
        <p:nvSpPr>
          <p:cNvPr id="884" name="Rectangle 4"/>
          <p:cNvSpPr/>
          <p:nvPr/>
        </p:nvSpPr>
        <p:spPr>
          <a:xfrm>
            <a:off x="30240" y="189000"/>
            <a:ext cx="2876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00"/>
                </a:solidFill>
                <a:latin typeface="Arial Narrow"/>
              </a:rPr>
              <a:t>FORMACIÓN DE ISOPRENOIDES ACTIV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Rectangle 5"/>
          <p:cNvSpPr/>
          <p:nvPr/>
        </p:nvSpPr>
        <p:spPr>
          <a:xfrm>
            <a:off x="120600" y="1730520"/>
            <a:ext cx="25066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 partir de MEVALONATO se obtienen los </a:t>
            </a:r>
            <a:r>
              <a:rPr b="0" lang="es-ES" sz="2000" spc="-1" strike="noStrike">
                <a:solidFill>
                  <a:srgbClr val="00ffff"/>
                </a:solidFill>
                <a:latin typeface="Arial"/>
              </a:rPr>
              <a:t>ISOPRENOS ACTIVAD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estos pasos implican gasto de </a:t>
            </a:r>
            <a:r>
              <a:rPr b="0" lang="es-ES" sz="2000" spc="-1" strike="noStrike">
                <a:solidFill>
                  <a:srgbClr val="ffc000"/>
                </a:solidFill>
                <a:latin typeface="Arial"/>
              </a:rPr>
              <a:t>ATP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ISOPRENOS se obtienen por reacciones </a:t>
            </a: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ABEZA-COL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7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8822-F786-4689-A86E-DA56024967C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7" name="Group 10"/>
          <p:cNvGrpSpPr/>
          <p:nvPr/>
        </p:nvGrpSpPr>
        <p:grpSpPr>
          <a:xfrm>
            <a:off x="2916360" y="1268280"/>
            <a:ext cx="5974920" cy="5184360"/>
            <a:chOff x="2916360" y="1268280"/>
            <a:chExt cx="5974920" cy="5184360"/>
          </a:xfrm>
        </p:grpSpPr>
        <p:pic>
          <p:nvPicPr>
            <p:cNvPr id="888" name="Picture 8" descr=""/>
            <p:cNvPicPr/>
            <p:nvPr/>
          </p:nvPicPr>
          <p:blipFill>
            <a:blip r:embed="rId1"/>
            <a:stretch/>
          </p:blipFill>
          <p:spPr>
            <a:xfrm>
              <a:off x="2916360" y="1268280"/>
              <a:ext cx="5974920" cy="286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9" name="Picture 9" descr=""/>
            <p:cNvPicPr/>
            <p:nvPr/>
          </p:nvPicPr>
          <p:blipFill>
            <a:blip r:embed="rId2"/>
            <a:srcRect l="0" t="27819" r="0" b="0"/>
            <a:stretch/>
          </p:blipFill>
          <p:spPr>
            <a:xfrm>
              <a:off x="2916360" y="4120920"/>
              <a:ext cx="5974920" cy="233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58560" y="441360"/>
            <a:ext cx="8569080" cy="9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ff00"/>
                </a:solidFill>
                <a:latin typeface="Arial Narrow"/>
              </a:rPr>
              <a:t>CONDENSACIÓN DE LOS ISOPRENOS ACTIVADOS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252108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os Isoprenos activados reaccionan entre sí para formar ISOPRENOIDES 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10 C: </a:t>
            </a:r>
            <a:r>
              <a:rPr b="1" lang="es-ES" sz="2200" spc="-1" strike="noStrike">
                <a:solidFill>
                  <a:srgbClr val="ff3300"/>
                </a:solidFill>
                <a:latin typeface="Arial"/>
              </a:rPr>
              <a:t>GERANIL-P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15 C: </a:t>
            </a:r>
            <a:r>
              <a:rPr b="1" lang="es-ES" sz="2200" spc="-1" strike="noStrike">
                <a:solidFill>
                  <a:srgbClr val="00ff00"/>
                </a:solidFill>
                <a:latin typeface="Arial"/>
              </a:rPr>
              <a:t>FARNESIL-P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Imagen 2" descr=""/>
          <p:cNvPicPr/>
          <p:nvPr/>
        </p:nvPicPr>
        <p:blipFill>
          <a:blip r:embed="rId1"/>
          <a:srcRect l="-7983" t="0" r="0" b="0"/>
          <a:stretch/>
        </p:blipFill>
        <p:spPr>
          <a:xfrm>
            <a:off x="108000" y="333360"/>
            <a:ext cx="6267240" cy="6459480"/>
          </a:xfrm>
          <a:prstGeom prst="rect">
            <a:avLst/>
          </a:prstGeom>
          <a:ln w="0">
            <a:noFill/>
          </a:ln>
        </p:spPr>
      </p:pic>
      <p:sp>
        <p:nvSpPr>
          <p:cNvPr id="893" name="Cuadro de texto 3"/>
          <p:cNvSpPr/>
          <p:nvPr/>
        </p:nvSpPr>
        <p:spPr>
          <a:xfrm>
            <a:off x="6443640" y="1484280"/>
            <a:ext cx="2590920" cy="4077360"/>
          </a:xfrm>
          <a:prstGeom prst="rect">
            <a:avLst/>
          </a:prstGeom>
          <a:solidFill>
            <a:srgbClr val="f6f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292934"/>
                </a:solidFill>
                <a:uFillTx/>
                <a:latin typeface="Arial Rounded MT Bold"/>
              </a:rPr>
              <a:t>Farnesil-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92934"/>
                </a:solidFill>
                <a:latin typeface="Arial Rounded MT Bold"/>
              </a:rPr>
              <a:t>Intermediario de la síntesis de carotenoides, Escualeno y de la biosíntesis de esteroles.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292934"/>
                </a:solidFill>
                <a:latin typeface="Arial Rounded MT Bold"/>
              </a:rPr>
              <a:t>Es también un sustrato en la adición de un grupo farnesilo a las proteín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1 CuadroTexto"/>
          <p:cNvSpPr/>
          <p:nvPr/>
        </p:nvSpPr>
        <p:spPr>
          <a:xfrm>
            <a:off x="6443640" y="355680"/>
            <a:ext cx="24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Isoprenoides activ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D77C-E150-4077-A1F4-7B399B0B493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32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Arial Rounded MT Bold"/>
              </a:rPr>
              <a:t>. II) </a:t>
            </a:r>
            <a:r>
              <a:rPr b="1" lang="es-ES" sz="4000" spc="-1" strike="noStrike">
                <a:solidFill>
                  <a:srgbClr val="00ff00"/>
                </a:solidFill>
                <a:latin typeface="Arial Narrow"/>
              </a:rPr>
              <a:t>OBTENCIÓN DE ESCUALENO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897" name="Picture 18" descr=""/>
          <p:cNvPicPr/>
          <p:nvPr/>
        </p:nvPicPr>
        <p:blipFill>
          <a:blip r:embed="rId1"/>
          <a:stretch/>
        </p:blipFill>
        <p:spPr>
          <a:xfrm>
            <a:off x="2273400" y="1484280"/>
            <a:ext cx="6804000" cy="4969080"/>
          </a:xfrm>
          <a:prstGeom prst="rect">
            <a:avLst/>
          </a:prstGeom>
          <a:ln w="0">
            <a:noFill/>
          </a:ln>
        </p:spPr>
      </p:pic>
      <p:sp>
        <p:nvSpPr>
          <p:cNvPr id="898" name="Text Box 21"/>
          <p:cNvSpPr/>
          <p:nvPr/>
        </p:nvSpPr>
        <p:spPr>
          <a:xfrm>
            <a:off x="0" y="2349360"/>
            <a:ext cx="2195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os moléculas de 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FARNESIL-PP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se condensan para formar una de 30 C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00"/>
                </a:solidFill>
                <a:latin typeface="Arial"/>
              </a:rPr>
              <a:t>ESCUALENO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que se asimila a la estructura abierta del COLESTER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6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BDC9-04B1-4F9B-860D-612E68C04E4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-3600" y="115560"/>
            <a:ext cx="3816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 Rounded MT Bold"/>
              </a:rPr>
              <a:t>III) </a:t>
            </a:r>
            <a:r>
              <a:rPr b="1" lang="es-ES" sz="2400" spc="-1" strike="noStrike">
                <a:solidFill>
                  <a:srgbClr val="ffffcc"/>
                </a:solidFill>
                <a:latin typeface="Arial Narrow"/>
              </a:rPr>
              <a:t>CICLIZACIÓN DEL ESCUALENO</a:t>
            </a:r>
            <a:endParaRPr b="1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2843280" cy="56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ESCUALEN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e cicla para formar </a:t>
            </a: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COLESTERO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en una serie de etapas que involucra otros </a:t>
            </a:r>
            <a:r>
              <a:rPr b="0" lang="es-ES" sz="2000" spc="-1" strike="noStrike">
                <a:solidFill>
                  <a:srgbClr val="00ffff"/>
                </a:solidFill>
                <a:latin typeface="Arial"/>
              </a:rPr>
              <a:t>esterol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como intermedi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0" lang="es-ES" sz="2000" spc="-1" strike="noStrike">
                <a:solidFill>
                  <a:srgbClr val="ffc000"/>
                </a:solidFill>
                <a:latin typeface="Arial"/>
              </a:rPr>
              <a:t>vegetal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no sintetizan colester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odas las enzimas de esta etapa se encuentran en las membranas del R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2" name="Picture 7" descr=""/>
          <p:cNvPicPr/>
          <p:nvPr/>
        </p:nvPicPr>
        <p:blipFill>
          <a:blip r:embed="rId1"/>
          <a:stretch/>
        </p:blipFill>
        <p:spPr>
          <a:xfrm>
            <a:off x="2916360" y="404640"/>
            <a:ext cx="5952960" cy="6234120"/>
          </a:xfrm>
          <a:prstGeom prst="rect">
            <a:avLst/>
          </a:prstGeom>
          <a:ln w="0">
            <a:noFill/>
          </a:ln>
        </p:spPr>
      </p:pic>
      <p:sp>
        <p:nvSpPr>
          <p:cNvPr id="903" name="5 CuadroTexto"/>
          <p:cNvSpPr/>
          <p:nvPr/>
        </p:nvSpPr>
        <p:spPr>
          <a:xfrm>
            <a:off x="6789600" y="2835360"/>
            <a:ext cx="72396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Times New Roman"/>
              </a:rPr>
              <a:t>Hongo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6 CuadroTexto"/>
          <p:cNvSpPr/>
          <p:nvPr/>
        </p:nvSpPr>
        <p:spPr>
          <a:xfrm>
            <a:off x="4224960" y="2822400"/>
            <a:ext cx="62568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Times New Roman"/>
              </a:rPr>
              <a:t>Planta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7 CuadroTexto"/>
          <p:cNvSpPr/>
          <p:nvPr/>
        </p:nvSpPr>
        <p:spPr>
          <a:xfrm>
            <a:off x="5170320" y="2990880"/>
            <a:ext cx="7668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Times New Roman"/>
              </a:rPr>
              <a:t>Animale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1 CuadroTexto"/>
          <p:cNvSpPr/>
          <p:nvPr/>
        </p:nvSpPr>
        <p:spPr>
          <a:xfrm>
            <a:off x="7034400" y="6288120"/>
            <a:ext cx="531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(27C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7" name="Picture 2" descr=""/>
          <p:cNvPicPr/>
          <p:nvPr/>
        </p:nvPicPr>
        <p:blipFill>
          <a:blip r:embed="rId2"/>
          <a:stretch/>
        </p:blipFill>
        <p:spPr>
          <a:xfrm>
            <a:off x="6883560" y="5013360"/>
            <a:ext cx="536400" cy="30492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3" descr=""/>
          <p:cNvPicPr/>
          <p:nvPr/>
        </p:nvPicPr>
        <p:blipFill>
          <a:blip r:embed="rId3"/>
          <a:stretch/>
        </p:blipFill>
        <p:spPr>
          <a:xfrm>
            <a:off x="6686640" y="907920"/>
            <a:ext cx="536400" cy="304920"/>
          </a:xfrm>
          <a:prstGeom prst="rect">
            <a:avLst/>
          </a:prstGeom>
          <a:ln w="0">
            <a:noFill/>
          </a:ln>
        </p:spPr>
      </p:pic>
      <p:sp>
        <p:nvSpPr>
          <p:cNvPr id="909" name="2 CuadroTexto"/>
          <p:cNvSpPr/>
          <p:nvPr/>
        </p:nvSpPr>
        <p:spPr>
          <a:xfrm>
            <a:off x="5952600" y="5386320"/>
            <a:ext cx="767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(- 3 CO2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4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7801-314E-4C1A-9701-3A43BC75BF3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1" name="Picture 2" descr=""/>
          <p:cNvPicPr/>
          <p:nvPr/>
        </p:nvPicPr>
        <p:blipFill>
          <a:blip r:embed="rId1"/>
          <a:stretch/>
        </p:blipFill>
        <p:spPr>
          <a:xfrm>
            <a:off x="1258920" y="1452600"/>
            <a:ext cx="6626160" cy="5300640"/>
          </a:xfrm>
          <a:prstGeom prst="rect">
            <a:avLst/>
          </a:prstGeom>
          <a:ln w="0">
            <a:noFill/>
          </a:ln>
        </p:spPr>
      </p:pic>
      <p:sp>
        <p:nvSpPr>
          <p:cNvPr id="912" name="6 Rectángulo"/>
          <p:cNvSpPr/>
          <p:nvPr/>
        </p:nvSpPr>
        <p:spPr>
          <a:xfrm>
            <a:off x="179280" y="434880"/>
            <a:ext cx="869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c000"/>
                </a:solidFill>
                <a:latin typeface="Arial Rounded MT Bold"/>
              </a:rPr>
              <a:t>LAS CÉLULAS TAMBIÉN OBTIENEN SU COLESTEROL MEDIANTE ENDOCITOSIS DE LIPOPROTEÍNAS DE BAJA DENSIDAD MEDIADA POR EL RECEPTOR DE LD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F112-2299-425F-8D37-BA0E5A5D65E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4" name="Picture 2" descr=""/>
          <p:cNvPicPr/>
          <p:nvPr/>
        </p:nvPicPr>
        <p:blipFill>
          <a:blip r:embed="rId1"/>
          <a:stretch/>
        </p:blipFill>
        <p:spPr>
          <a:xfrm>
            <a:off x="684360" y="1054080"/>
            <a:ext cx="7559640" cy="5454720"/>
          </a:xfrm>
          <a:prstGeom prst="rect">
            <a:avLst/>
          </a:prstGeom>
          <a:ln w="0">
            <a:noFill/>
          </a:ln>
        </p:spPr>
      </p:pic>
      <p:sp>
        <p:nvSpPr>
          <p:cNvPr id="915" name="3 CuadroTexto"/>
          <p:cNvSpPr/>
          <p:nvPr/>
        </p:nvSpPr>
        <p:spPr>
          <a:xfrm flipH="1">
            <a:off x="1065960" y="404640"/>
            <a:ext cx="69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</a:rPr>
              <a:t>ESTERIFICACIÓN DEL COLESTE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1 CuadroTexto"/>
          <p:cNvSpPr/>
          <p:nvPr/>
        </p:nvSpPr>
        <p:spPr>
          <a:xfrm>
            <a:off x="5271840" y="3218040"/>
            <a:ext cx="123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(Ac. Linoleico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2 CuadroTexto"/>
          <p:cNvSpPr/>
          <p:nvPr/>
        </p:nvSpPr>
        <p:spPr>
          <a:xfrm>
            <a:off x="2401200" y="2565360"/>
            <a:ext cx="25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771E-1ECD-45DF-B61E-427DC4868E4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9" name="Picture 2" descr=""/>
          <p:cNvPicPr/>
          <p:nvPr/>
        </p:nvPicPr>
        <p:blipFill>
          <a:blip r:embed="rId1"/>
          <a:stretch/>
        </p:blipFill>
        <p:spPr>
          <a:xfrm>
            <a:off x="357120" y="268200"/>
            <a:ext cx="842976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 Rounded MT Bold"/>
              </a:rPr>
              <a:t>Regulación de la Biosíntesis de Colesterol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1" name="Cuadro de texto 5"/>
          <p:cNvSpPr/>
          <p:nvPr/>
        </p:nvSpPr>
        <p:spPr>
          <a:xfrm>
            <a:off x="250920" y="299736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HMG-CoA reduct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Línea 6"/>
          <p:cNvSpPr/>
          <p:nvPr/>
        </p:nvSpPr>
        <p:spPr>
          <a:xfrm flipV="1">
            <a:off x="3348000" y="2565360"/>
            <a:ext cx="1224000" cy="43200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Elipse 7"/>
          <p:cNvSpPr/>
          <p:nvPr/>
        </p:nvSpPr>
        <p:spPr>
          <a:xfrm rot="20960400">
            <a:off x="2895480" y="2060640"/>
            <a:ext cx="1511280" cy="64764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R.Coval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Línea 8"/>
          <p:cNvSpPr/>
          <p:nvPr/>
        </p:nvSpPr>
        <p:spPr>
          <a:xfrm>
            <a:off x="3419640" y="3645000"/>
            <a:ext cx="1296720" cy="64764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Elipse 9"/>
          <p:cNvSpPr/>
          <p:nvPr/>
        </p:nvSpPr>
        <p:spPr>
          <a:xfrm rot="1550400">
            <a:off x="2987640" y="4005000"/>
            <a:ext cx="1522440" cy="67464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R. Alosté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Elipse 10"/>
          <p:cNvSpPr/>
          <p:nvPr/>
        </p:nvSpPr>
        <p:spPr>
          <a:xfrm>
            <a:off x="4716360" y="2276640"/>
            <a:ext cx="79236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Cuadro de texto 11"/>
          <p:cNvSpPr/>
          <p:nvPr/>
        </p:nvSpPr>
        <p:spPr>
          <a:xfrm>
            <a:off x="5796000" y="3500280"/>
            <a:ext cx="2376360" cy="1008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Mevalon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Colesterol     Ácidos bilia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Cuadro de texto 12"/>
          <p:cNvSpPr/>
          <p:nvPr/>
        </p:nvSpPr>
        <p:spPr>
          <a:xfrm>
            <a:off x="5724360" y="4797360"/>
            <a:ext cx="2376720" cy="703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Medicamentos: Lovastat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Elipse 13"/>
          <p:cNvSpPr/>
          <p:nvPr/>
        </p:nvSpPr>
        <p:spPr>
          <a:xfrm>
            <a:off x="4788000" y="4076640"/>
            <a:ext cx="79200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Elipse 14"/>
          <p:cNvSpPr/>
          <p:nvPr/>
        </p:nvSpPr>
        <p:spPr>
          <a:xfrm>
            <a:off x="4788000" y="1557360"/>
            <a:ext cx="792000" cy="5047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Cuadro de texto 15"/>
          <p:cNvSpPr/>
          <p:nvPr/>
        </p:nvSpPr>
        <p:spPr>
          <a:xfrm>
            <a:off x="5867280" y="1700280"/>
            <a:ext cx="1297080" cy="3988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Insul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Cuadro de texto 16"/>
          <p:cNvSpPr/>
          <p:nvPr/>
        </p:nvSpPr>
        <p:spPr>
          <a:xfrm>
            <a:off x="5867280" y="2421000"/>
            <a:ext cx="1584360" cy="3988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Glucag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Línea 17"/>
          <p:cNvSpPr/>
          <p:nvPr/>
        </p:nvSpPr>
        <p:spPr>
          <a:xfrm>
            <a:off x="1835280" y="3645000"/>
            <a:ext cx="0" cy="158436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Elipse 18"/>
          <p:cNvSpPr/>
          <p:nvPr/>
        </p:nvSpPr>
        <p:spPr>
          <a:xfrm>
            <a:off x="684360" y="5373720"/>
            <a:ext cx="79200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Cuadro de texto 19"/>
          <p:cNvSpPr/>
          <p:nvPr/>
        </p:nvSpPr>
        <p:spPr>
          <a:xfrm>
            <a:off x="1979640" y="5589720"/>
            <a:ext cx="1728720" cy="3988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Coleste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Elipse 20"/>
          <p:cNvSpPr/>
          <p:nvPr/>
        </p:nvSpPr>
        <p:spPr>
          <a:xfrm>
            <a:off x="250920" y="3860640"/>
            <a:ext cx="1728720" cy="79056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Transcrip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1 CuadroTexto"/>
          <p:cNvSpPr/>
          <p:nvPr/>
        </p:nvSpPr>
        <p:spPr>
          <a:xfrm>
            <a:off x="1526760" y="395280"/>
            <a:ext cx="61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000"/>
                </a:solidFill>
                <a:latin typeface="Arial Rounded MT Bold"/>
              </a:rPr>
              <a:t>Regulación de la Biosíntesis de Coleste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Imagen 2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7704000" cy="5006880"/>
          </a:xfrm>
          <a:prstGeom prst="rect">
            <a:avLst/>
          </a:prstGeom>
          <a:ln w="0">
            <a:noFill/>
          </a:ln>
        </p:spPr>
      </p:pic>
      <p:pic>
        <p:nvPicPr>
          <p:cNvPr id="802" name="Imagen 3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2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F08D-15AD-4C51-9291-8B029559843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9" name="Picture 2" descr=""/>
          <p:cNvPicPr/>
          <p:nvPr/>
        </p:nvPicPr>
        <p:blipFill>
          <a:blip r:embed="rId1"/>
          <a:stretch/>
        </p:blipFill>
        <p:spPr>
          <a:xfrm>
            <a:off x="385920" y="316080"/>
            <a:ext cx="8372160" cy="62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2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FA87-DDB3-49B3-B224-1CF1199266F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3 CuadroTexto"/>
          <p:cNvSpPr/>
          <p:nvPr/>
        </p:nvSpPr>
        <p:spPr>
          <a:xfrm>
            <a:off x="539640" y="333360"/>
            <a:ext cx="8280360" cy="55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fff00"/>
                </a:solidFill>
                <a:uFillTx/>
                <a:latin typeface="Arial"/>
              </a:rPr>
              <a:t>CATABOLISMO Y EXCRECIÓN DE COLESTE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Nuestro organismo no tiene las enzimas para degradar al ciclopentanoperhidrofenantre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El hígado es el encargado de eliminar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La mayor parte en forma de ácidos bilia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fff00"/>
                </a:solidFill>
                <a:uFillTx/>
                <a:latin typeface="Arial"/>
              </a:rPr>
              <a:t>ETAPAS DE LA SÍNTESIS DE ACIDOS BILIA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Hidroxilación 7 </a:t>
            </a:r>
            <a:r>
              <a:rPr b="1" lang="es-MX" sz="20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 de los esteroides precurs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Modificación de la estructura de los anill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Acortamiento y oxidación de la cadena later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Conjugación del ácido biliar con aminoáci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ángulo 20"/>
          <p:cNvSpPr/>
          <p:nvPr/>
        </p:nvSpPr>
        <p:spPr>
          <a:xfrm>
            <a:off x="5292720" y="1916280"/>
            <a:ext cx="3851280" cy="410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71400" y="404280"/>
            <a:ext cx="778824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c000"/>
                </a:solidFill>
                <a:latin typeface="Arial Rounded MT Bold"/>
              </a:rPr>
              <a:t>Sales biliares y emulsión de grasas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4" name="Cuadro de texto 6"/>
          <p:cNvSpPr/>
          <p:nvPr/>
        </p:nvSpPr>
        <p:spPr>
          <a:xfrm>
            <a:off x="900000" y="242100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5" name="Grupo 19"/>
          <p:cNvGrpSpPr/>
          <p:nvPr/>
        </p:nvGrpSpPr>
        <p:grpSpPr>
          <a:xfrm>
            <a:off x="468360" y="1916280"/>
            <a:ext cx="8675640" cy="3893760"/>
            <a:chOff x="468360" y="1916280"/>
            <a:chExt cx="8675640" cy="3893760"/>
          </a:xfrm>
        </p:grpSpPr>
        <p:pic>
          <p:nvPicPr>
            <p:cNvPr id="946" name="Imagen 3" descr="fi18p4"/>
            <p:cNvPicPr/>
            <p:nvPr/>
          </p:nvPicPr>
          <p:blipFill>
            <a:blip r:embed="rId1"/>
            <a:stretch/>
          </p:blipFill>
          <p:spPr>
            <a:xfrm>
              <a:off x="468360" y="2205000"/>
              <a:ext cx="8497800" cy="32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Cuadro de texto 7"/>
            <p:cNvSpPr/>
            <p:nvPr/>
          </p:nvSpPr>
          <p:spPr>
            <a:xfrm>
              <a:off x="826920" y="4508640"/>
              <a:ext cx="151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cido cólic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Cuadro de texto 8"/>
            <p:cNvSpPr/>
            <p:nvPr/>
          </p:nvSpPr>
          <p:spPr>
            <a:xfrm>
              <a:off x="1403280" y="2565360"/>
              <a:ext cx="151308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ase hidrofóbic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Cuadro de texto 9"/>
            <p:cNvSpPr/>
            <p:nvPr/>
          </p:nvSpPr>
          <p:spPr>
            <a:xfrm>
              <a:off x="4067280" y="4437000"/>
              <a:ext cx="151272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ase hidrofílic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Cuadro de texto 10"/>
            <p:cNvSpPr/>
            <p:nvPr/>
          </p:nvSpPr>
          <p:spPr>
            <a:xfrm>
              <a:off x="4140360" y="3429000"/>
              <a:ext cx="115236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sociac. con T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Cuadro de texto 11"/>
            <p:cNvSpPr/>
            <p:nvPr/>
          </p:nvSpPr>
          <p:spPr>
            <a:xfrm>
              <a:off x="2340000" y="5229360"/>
              <a:ext cx="187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ALES BILIAR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Cuadro de texto 12"/>
            <p:cNvSpPr/>
            <p:nvPr/>
          </p:nvSpPr>
          <p:spPr>
            <a:xfrm>
              <a:off x="6084720" y="5229360"/>
              <a:ext cx="136692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ICEL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Cuadro de texto 13"/>
            <p:cNvSpPr/>
            <p:nvPr/>
          </p:nvSpPr>
          <p:spPr>
            <a:xfrm>
              <a:off x="5364000" y="2300400"/>
              <a:ext cx="151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ales biliar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Cuadro de texto 14"/>
            <p:cNvSpPr/>
            <p:nvPr/>
          </p:nvSpPr>
          <p:spPr>
            <a:xfrm>
              <a:off x="7451640" y="1916280"/>
              <a:ext cx="151308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Lipasa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ancreátic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Cuadro de texto 15"/>
            <p:cNvSpPr/>
            <p:nvPr/>
          </p:nvSpPr>
          <p:spPr>
            <a:xfrm>
              <a:off x="7631280" y="2587680"/>
              <a:ext cx="151272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riacilglicero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Cuadro de texto 16"/>
            <p:cNvSpPr/>
            <p:nvPr/>
          </p:nvSpPr>
          <p:spPr>
            <a:xfrm>
              <a:off x="7740720" y="3860640"/>
              <a:ext cx="122400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igestión </a:t>
              </a: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lip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Cuadro de texto 17"/>
            <p:cNvSpPr/>
            <p:nvPr/>
          </p:nvSpPr>
          <p:spPr>
            <a:xfrm>
              <a:off x="7524720" y="5229360"/>
              <a:ext cx="93492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CIDO GRAS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8" name="Cuadro de texto 18"/>
          <p:cNvSpPr/>
          <p:nvPr/>
        </p:nvSpPr>
        <p:spPr>
          <a:xfrm>
            <a:off x="395280" y="587700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lipasa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: Péptido que forma complejo con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lip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8D3C-88F4-4252-9A97-E5259DBF6F0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0" name="Picture 2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58240" cy="5910120"/>
          </a:xfrm>
          <a:prstGeom prst="rect">
            <a:avLst/>
          </a:prstGeom>
          <a:ln w="0">
            <a:noFill/>
          </a:ln>
        </p:spPr>
      </p:pic>
      <p:sp>
        <p:nvSpPr>
          <p:cNvPr id="961" name="2 CuadroTexto"/>
          <p:cNvSpPr/>
          <p:nvPr/>
        </p:nvSpPr>
        <p:spPr>
          <a:xfrm>
            <a:off x="2302200" y="3629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000"/>
                </a:solidFill>
                <a:latin typeface="Arial Rounded MT Bold"/>
              </a:rPr>
              <a:t>SALES Y ACIDOS BILIARES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52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Contienen 24 C y 2 ó 3 hidroxi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on anfipát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gentes emulsiona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00"/>
                </a:solidFill>
                <a:uFillTx/>
                <a:latin typeface="Arial"/>
              </a:rPr>
              <a:t>ACIDOS BILIARES PRIMARIOS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(Cólico y Quenodesoxicólic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00"/>
                </a:solidFill>
                <a:uFillTx/>
                <a:latin typeface="Arial"/>
              </a:rPr>
              <a:t>ACIDOS BILIARES SECUNDARIOS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 (Desoxicólico y Litocólic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00"/>
                </a:solidFill>
                <a:uFillTx/>
                <a:latin typeface="Arial"/>
              </a:rPr>
              <a:t>SALES BILIARES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: GLICINA Y TAUR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(Glicocólico ó taurocólic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7F6C-72D4-4B04-BEF4-9B5FD01797B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5" name="Picture 3" descr=""/>
          <p:cNvPicPr/>
          <p:nvPr/>
        </p:nvPicPr>
        <p:blipFill>
          <a:blip r:embed="rId1"/>
          <a:stretch/>
        </p:blipFill>
        <p:spPr>
          <a:xfrm>
            <a:off x="900000" y="87480"/>
            <a:ext cx="7344000" cy="65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8C1F-FD02-4A67-92A8-A48EB3D4830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4 CuadroTexto"/>
          <p:cNvSpPr/>
          <p:nvPr/>
        </p:nvSpPr>
        <p:spPr>
          <a:xfrm>
            <a:off x="195120" y="189000"/>
            <a:ext cx="8568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En hígado los ácidos biliares (AB) se conjugan con aminoácidos y así pasan a la vesícula bili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Puesto que la bilis contiene una cantidad importante de Na+ y K+ y el pH es alcalino, los AB se encuentran como sales biliares (SB)</a:t>
            </a: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 así llegan al intesti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En intestino las SB son en parte excretadas y en parte reabsorbid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ff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CICLO ENTEROHEPÁ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Lo que no se absorbe sufre en intestino la acción de bacterias de la flora norm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Se producen COPROSTANOL Y COLESTANOL </a:t>
            </a: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 isómeros que representan los esteroles de materia fec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D68B-E1C6-4B40-ADAF-B7AFF7EDE38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9" name="Picture 2" descr=""/>
          <p:cNvPicPr/>
          <p:nvPr/>
        </p:nvPicPr>
        <p:blipFill>
          <a:blip r:embed="rId1"/>
          <a:stretch/>
        </p:blipFill>
        <p:spPr>
          <a:xfrm>
            <a:off x="652320" y="836640"/>
            <a:ext cx="8058240" cy="5329080"/>
          </a:xfrm>
          <a:prstGeom prst="rect">
            <a:avLst/>
          </a:prstGeom>
          <a:ln w="0">
            <a:noFill/>
          </a:ln>
        </p:spPr>
      </p:pic>
      <p:sp>
        <p:nvSpPr>
          <p:cNvPr id="970" name="2 CuadroTexto"/>
          <p:cNvSpPr/>
          <p:nvPr/>
        </p:nvSpPr>
        <p:spPr>
          <a:xfrm>
            <a:off x="5443560" y="50133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(Resina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000000"/>
          </a:solidFill>
          <a:ln w="936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c000"/>
                </a:solidFill>
                <a:uFillTx/>
                <a:latin typeface="Arial Narrow"/>
              </a:rPr>
              <a:t>Metabolismo de los Isoprenoides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04" name="Cuadro de texto 3"/>
          <p:cNvSpPr/>
          <p:nvPr/>
        </p:nvSpPr>
        <p:spPr>
          <a:xfrm>
            <a:off x="250920" y="2637000"/>
            <a:ext cx="24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soprenoides o terpe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Cuadro de texto 4"/>
          <p:cNvSpPr/>
          <p:nvPr/>
        </p:nvSpPr>
        <p:spPr>
          <a:xfrm>
            <a:off x="2843280" y="1844640"/>
            <a:ext cx="194472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teroi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Cuadro de texto 5"/>
          <p:cNvSpPr/>
          <p:nvPr/>
        </p:nvSpPr>
        <p:spPr>
          <a:xfrm>
            <a:off x="2916360" y="2997360"/>
            <a:ext cx="244764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Ácidos Bili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Cuadro de texto 6"/>
          <p:cNvSpPr/>
          <p:nvPr/>
        </p:nvSpPr>
        <p:spPr>
          <a:xfrm>
            <a:off x="2916360" y="4005360"/>
            <a:ext cx="360036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itaminas liposolu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Cuadro de texto 7"/>
          <p:cNvSpPr/>
          <p:nvPr/>
        </p:nvSpPr>
        <p:spPr>
          <a:xfrm>
            <a:off x="3637080" y="48434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olic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Cuadro de texto 8"/>
          <p:cNvSpPr/>
          <p:nvPr/>
        </p:nvSpPr>
        <p:spPr>
          <a:xfrm>
            <a:off x="3708360" y="52768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enzima 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Cuadro de texto 9"/>
          <p:cNvSpPr/>
          <p:nvPr/>
        </p:nvSpPr>
        <p:spPr>
          <a:xfrm>
            <a:off x="3564000" y="57801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it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Cuadro de texto 10"/>
          <p:cNvSpPr/>
          <p:nvPr/>
        </p:nvSpPr>
        <p:spPr>
          <a:xfrm>
            <a:off x="3635280" y="630864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Gibereli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Elipse 11"/>
          <p:cNvSpPr/>
          <p:nvPr/>
        </p:nvSpPr>
        <p:spPr>
          <a:xfrm>
            <a:off x="5794200" y="1197000"/>
            <a:ext cx="2303640" cy="13683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3" name="Grupo 12"/>
          <p:cNvGrpSpPr/>
          <p:nvPr/>
        </p:nvGrpSpPr>
        <p:grpSpPr>
          <a:xfrm>
            <a:off x="5651640" y="1341360"/>
            <a:ext cx="2519280" cy="1034640"/>
            <a:chOff x="5651640" y="1341360"/>
            <a:chExt cx="2519280" cy="1034640"/>
          </a:xfrm>
        </p:grpSpPr>
        <p:sp>
          <p:nvSpPr>
            <p:cNvPr id="814" name="Cuadro de texto 13"/>
            <p:cNvSpPr/>
            <p:nvPr/>
          </p:nvSpPr>
          <p:spPr>
            <a:xfrm>
              <a:off x="5651640" y="1341360"/>
              <a:ext cx="24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Colestero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Cuadro de texto 14"/>
            <p:cNvSpPr/>
            <p:nvPr/>
          </p:nvSpPr>
          <p:spPr>
            <a:xfrm>
              <a:off x="5722920" y="1916280"/>
              <a:ext cx="24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Hormona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6" name="Grupo 15"/>
          <p:cNvGrpSpPr/>
          <p:nvPr/>
        </p:nvGrpSpPr>
        <p:grpSpPr>
          <a:xfrm>
            <a:off x="5580000" y="2565360"/>
            <a:ext cx="3455640" cy="1368000"/>
            <a:chOff x="5580000" y="2565360"/>
            <a:chExt cx="3455640" cy="1368000"/>
          </a:xfrm>
        </p:grpSpPr>
        <p:sp>
          <p:nvSpPr>
            <p:cNvPr id="817" name="Elipse 16"/>
            <p:cNvSpPr/>
            <p:nvPr/>
          </p:nvSpPr>
          <p:spPr>
            <a:xfrm>
              <a:off x="5580000" y="2565360"/>
              <a:ext cx="3453840" cy="136800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Cuadro de texto 17"/>
            <p:cNvSpPr/>
            <p:nvPr/>
          </p:nvSpPr>
          <p:spPr>
            <a:xfrm>
              <a:off x="5730480" y="2724840"/>
              <a:ext cx="33051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Ac. cólico, desoxicólic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Quenodesoxicólic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9" name="Elipse 18"/>
          <p:cNvSpPr/>
          <p:nvPr/>
        </p:nvSpPr>
        <p:spPr>
          <a:xfrm>
            <a:off x="5219640" y="4508640"/>
            <a:ext cx="1728720" cy="7920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, D, E y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0" name="Grupo 19"/>
          <p:cNvGrpSpPr/>
          <p:nvPr/>
        </p:nvGrpSpPr>
        <p:grpSpPr>
          <a:xfrm>
            <a:off x="144360" y="4724280"/>
            <a:ext cx="3203640" cy="1647720"/>
            <a:chOff x="144360" y="4724280"/>
            <a:chExt cx="3203640" cy="1647720"/>
          </a:xfrm>
        </p:grpSpPr>
        <p:pic>
          <p:nvPicPr>
            <p:cNvPr id="821" name="Imagen 20" descr=""/>
            <p:cNvPicPr/>
            <p:nvPr/>
          </p:nvPicPr>
          <p:blipFill>
            <a:blip r:embed="rId7"/>
            <a:stretch/>
          </p:blipFill>
          <p:spPr>
            <a:xfrm>
              <a:off x="144360" y="4724280"/>
              <a:ext cx="320364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2" name="Cuadro de texto 21"/>
            <p:cNvSpPr/>
            <p:nvPr/>
          </p:nvSpPr>
          <p:spPr>
            <a:xfrm>
              <a:off x="971280" y="5949720"/>
              <a:ext cx="1346400" cy="422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ISOPREN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2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C295-6915-4F9A-A9D6-57734F60F92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3 CuadroTexto"/>
          <p:cNvSpPr/>
          <p:nvPr/>
        </p:nvSpPr>
        <p:spPr>
          <a:xfrm>
            <a:off x="324000" y="249120"/>
            <a:ext cx="82803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EL COLESTEROL CIRCULA EN EL PLASMA </a:t>
            </a:r>
            <a:r>
              <a:rPr b="1" lang="es-MX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ESTERIFICADO CON AG (AC. OLEIC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LIB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PROPORCIÓN 3: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CE </a:t>
            </a:r>
            <a:r>
              <a:rPr b="1" lang="es-MX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 CIRCULA UNIDO A LP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C EXÓGENO </a:t>
            </a:r>
            <a:r>
              <a:rPr b="1" lang="es-MX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 QUILOMICR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C ENDÓGENO </a:t>
            </a:r>
            <a:r>
              <a:rPr b="1" lang="es-MX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 LD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LA BIOSÍNTESIS DE COLESTEROL OCURRE EN TODOS LOS ÓRGANOS:</a:t>
            </a: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- HÍG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- INTESTI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- GLÁNDULAS SUPRARRE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- GÓNAD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- TEJIDO MUSCU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- ADIPO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UN ADULTO NORMAL PRODUCE ALREDEDOR DE 1 G DE C/ 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8504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ff00"/>
                </a:solidFill>
                <a:latin typeface="Arial Narrow"/>
              </a:rPr>
              <a:t>METABOLISMO DEL COLESTEROL</a:t>
            </a: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Estructura Química del Colesterol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826" name="Imagen 3" descr="fi19p17"/>
          <p:cNvPicPr/>
          <p:nvPr/>
        </p:nvPicPr>
        <p:blipFill>
          <a:blip r:embed="rId1"/>
          <a:srcRect l="13517" t="63605" r="13386" b="4452"/>
          <a:stretch/>
        </p:blipFill>
        <p:spPr>
          <a:xfrm>
            <a:off x="325440" y="4111560"/>
            <a:ext cx="3746520" cy="2363760"/>
          </a:xfrm>
          <a:prstGeom prst="rect">
            <a:avLst/>
          </a:prstGeom>
          <a:ln w="0">
            <a:noFill/>
          </a:ln>
        </p:spPr>
      </p:pic>
      <p:grpSp>
        <p:nvGrpSpPr>
          <p:cNvPr id="827" name="Grupo 8"/>
          <p:cNvGrpSpPr/>
          <p:nvPr/>
        </p:nvGrpSpPr>
        <p:grpSpPr>
          <a:xfrm>
            <a:off x="250920" y="1549440"/>
            <a:ext cx="3528720" cy="2310840"/>
            <a:chOff x="250920" y="1549440"/>
            <a:chExt cx="3528720" cy="2310840"/>
          </a:xfrm>
        </p:grpSpPr>
        <p:pic>
          <p:nvPicPr>
            <p:cNvPr id="828" name="Imagen 4" descr="fi19p17"/>
            <p:cNvPicPr/>
            <p:nvPr/>
          </p:nvPicPr>
          <p:blipFill>
            <a:blip r:embed="rId2"/>
            <a:srcRect l="24003" t="0" r="24252" b="79141"/>
            <a:stretch/>
          </p:blipFill>
          <p:spPr>
            <a:xfrm>
              <a:off x="325080" y="1549440"/>
              <a:ext cx="3078720" cy="188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Cuadro de texto 7"/>
            <p:cNvSpPr/>
            <p:nvPr/>
          </p:nvSpPr>
          <p:spPr>
            <a:xfrm>
              <a:off x="250920" y="3522960"/>
              <a:ext cx="3528720" cy="337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292934"/>
                  </a:solidFill>
                  <a:latin typeface="Arial"/>
                </a:rPr>
                <a:t>Ciclopentanoperhidrofenantren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0" name="Grupo 14"/>
          <p:cNvGrpSpPr/>
          <p:nvPr/>
        </p:nvGrpSpPr>
        <p:grpSpPr>
          <a:xfrm>
            <a:off x="4356000" y="2705040"/>
            <a:ext cx="4386240" cy="2814840"/>
            <a:chOff x="4356000" y="2705040"/>
            <a:chExt cx="4386240" cy="2814840"/>
          </a:xfrm>
        </p:grpSpPr>
        <p:pic>
          <p:nvPicPr>
            <p:cNvPr id="831" name="Imagen 9" descr="fi19p17"/>
            <p:cNvPicPr/>
            <p:nvPr/>
          </p:nvPicPr>
          <p:blipFill>
            <a:blip r:embed="rId3"/>
            <a:srcRect l="7480" t="26347" r="6693" b="35523"/>
            <a:stretch/>
          </p:blipFill>
          <p:spPr>
            <a:xfrm>
              <a:off x="4356000" y="2705040"/>
              <a:ext cx="4386240" cy="28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2" name="Cuadro de texto 12"/>
            <p:cNvSpPr/>
            <p:nvPr/>
          </p:nvSpPr>
          <p:spPr>
            <a:xfrm>
              <a:off x="5792400" y="5079960"/>
              <a:ext cx="1656000" cy="368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292934"/>
                  </a:solidFill>
                  <a:latin typeface="Arial"/>
                </a:rPr>
                <a:t>Colestero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4 CuadroTexto"/>
          <p:cNvSpPr/>
          <p:nvPr/>
        </p:nvSpPr>
        <p:spPr>
          <a:xfrm>
            <a:off x="179280" y="620640"/>
            <a:ext cx="864072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fff00"/>
                </a:solidFill>
                <a:uFillTx/>
                <a:latin typeface="Arial Rounded MT Bold"/>
              </a:rPr>
              <a:t>ESQUEMA GENERAL DE LA SÍNTESIS DE COLESTE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 Rounded MT Bold"/>
              </a:rPr>
              <a:t>Las enzimas que participan son citoplasmá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 Rounded MT Bold"/>
              </a:rPr>
              <a:t>Con excepción de la ESCUALENO OXIDASA que es microsom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 Rounded MT Bold"/>
              </a:rPr>
              <a:t>Todos los átomos de carbono del colesterol provienen del grupo </a:t>
            </a:r>
            <a:r>
              <a:rPr b="1" lang="es-MX" sz="2400" spc="-1" strike="noStrike" u="sng">
                <a:solidFill>
                  <a:srgbClr val="ffff00"/>
                </a:solidFill>
                <a:uFillTx/>
                <a:latin typeface="Arial Rounded MT Bold"/>
              </a:rPr>
              <a:t>ACETILO de un ACIL. Co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 Rounded MT Bold"/>
              </a:rPr>
              <a:t>NADPH  es el agente reductor en las reacciones de biosínte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5D55-6B88-46CF-9C20-BE40500B672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2 Rectángulo"/>
          <p:cNvSpPr/>
          <p:nvPr/>
        </p:nvSpPr>
        <p:spPr>
          <a:xfrm>
            <a:off x="179280" y="260280"/>
            <a:ext cx="856944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 Rounded MT Bold"/>
              </a:rPr>
              <a:t>SE CONSIDERAN 3 ETAPAS EN LA RUTA DE BIOSÍNTESIS DE COLESTERO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1" lang="es-MX" sz="2800" spc="-1" strike="noStrike">
                <a:solidFill>
                  <a:srgbClr val="ffff00"/>
                </a:solidFill>
                <a:latin typeface="Arial Rounded MT Bold"/>
              </a:rPr>
              <a:t>. I) Conversión de acetatos en Mevalona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1" lang="es-MX" sz="2800" spc="-1" strike="noStrike">
                <a:solidFill>
                  <a:srgbClr val="ffff00"/>
                </a:solidFill>
                <a:latin typeface="Arial Rounded MT Bold"/>
              </a:rPr>
              <a:t>. II) Transformación de mevalónico en </a:t>
            </a:r>
            <a:r>
              <a:rPr b="1" lang="es-MX" sz="28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1" lang="es-MX" sz="28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1" lang="es-MX" sz="28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1" lang="es-MX" sz="2800" spc="-1" strike="noStrike">
                <a:solidFill>
                  <a:srgbClr val="ffff00"/>
                </a:solidFill>
                <a:latin typeface="Arial Rounded MT Bold"/>
              </a:rPr>
              <a:t>escuale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1" lang="es-MX" sz="2800" spc="-1" strike="noStrike">
                <a:solidFill>
                  <a:srgbClr val="ffff00"/>
                </a:solidFill>
                <a:latin typeface="Arial Rounded MT Bold"/>
              </a:rPr>
              <a:t>. III) Conversión de escualeno en </a:t>
            </a:r>
            <a:r>
              <a:rPr b="1" lang="es-MX" sz="28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1" lang="es-MX" sz="28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1" lang="es-MX" sz="28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1" lang="es-MX" sz="28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1" lang="es-MX" sz="2800" spc="-1" strike="noStrike">
                <a:solidFill>
                  <a:srgbClr val="ffff00"/>
                </a:solidFill>
                <a:latin typeface="Arial Rounded MT Bold"/>
              </a:rPr>
              <a:t>colester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6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03A6-C14F-47DE-B4C1-497972546B5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95280" y="36792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000"/>
                </a:solidFill>
                <a:latin typeface="Arial Narrow"/>
              </a:rPr>
              <a:t>BIOSINTESIS DE COLESTEROL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838" name="Picture 4" descr=""/>
          <p:cNvPicPr/>
          <p:nvPr/>
        </p:nvPicPr>
        <p:blipFill>
          <a:blip r:embed="rId1"/>
          <a:stretch/>
        </p:blipFill>
        <p:spPr>
          <a:xfrm>
            <a:off x="900000" y="1521000"/>
            <a:ext cx="2971800" cy="146664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7" descr=""/>
          <p:cNvPicPr/>
          <p:nvPr/>
        </p:nvPicPr>
        <p:blipFill>
          <a:blip r:embed="rId2"/>
          <a:stretch/>
        </p:blipFill>
        <p:spPr>
          <a:xfrm>
            <a:off x="3276720" y="3067200"/>
            <a:ext cx="5649840" cy="3539880"/>
          </a:xfrm>
          <a:prstGeom prst="rect">
            <a:avLst/>
          </a:prstGeom>
          <a:ln w="0">
            <a:noFill/>
          </a:ln>
        </p:spPr>
      </p:pic>
      <p:sp>
        <p:nvSpPr>
          <p:cNvPr id="840" name="Text Box 10"/>
          <p:cNvSpPr/>
          <p:nvPr/>
        </p:nvSpPr>
        <p:spPr>
          <a:xfrm>
            <a:off x="4587840" y="1469880"/>
            <a:ext cx="4376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Narrow"/>
                <a:ea typeface="SimHei"/>
              </a:rPr>
              <a:t>La estructura de 27 C se obtiene a partir de moléculas de acetil-Co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Narrow"/>
                <a:ea typeface="SimHei"/>
              </a:rPr>
              <a:t>Se condensan moléculas de acetil-CoA para obtener </a:t>
            </a:r>
            <a:r>
              <a:rPr b="1" lang="es-ES" sz="2000" spc="-1" strike="noStrike">
                <a:solidFill>
                  <a:srgbClr val="00ff00"/>
                </a:solidFill>
                <a:latin typeface="Arial Narrow"/>
                <a:ea typeface="SimHei"/>
              </a:rPr>
              <a:t>ISOPRENOS</a:t>
            </a:r>
            <a:r>
              <a:rPr b="1" lang="es-ES" sz="2000" spc="-1" strike="noStrike">
                <a:solidFill>
                  <a:srgbClr val="ffffff"/>
                </a:solidFill>
                <a:latin typeface="Arial Narrow"/>
                <a:ea typeface="SimHei"/>
              </a:rPr>
              <a:t> activ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Text Box 11"/>
          <p:cNvSpPr/>
          <p:nvPr/>
        </p:nvSpPr>
        <p:spPr>
          <a:xfrm>
            <a:off x="149400" y="3998880"/>
            <a:ext cx="3090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00"/>
                </a:solidFill>
                <a:latin typeface="Arial Narrow"/>
              </a:rPr>
              <a:t>Los C negros derivan del grupo metilo del aceta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 Narrow"/>
              </a:rPr>
              <a:t>Los C rojos derivan del carboxilo del aceta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65000" y="189000"/>
            <a:ext cx="7756560" cy="1054080"/>
          </a:xfrm>
          <a:prstGeom prst="rect">
            <a:avLst/>
          </a:prstGeom>
          <a:solidFill>
            <a:srgbClr val="000000">
              <a:alpha val="40000"/>
            </a:srgbClr>
          </a:solidFill>
          <a:ln w="936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" sz="3600" spc="-1" strike="noStrike">
                <a:solidFill>
                  <a:srgbClr val="ffff00"/>
                </a:solidFill>
                <a:latin typeface="Arial Rounded MT Bold"/>
              </a:rPr>
              <a:t>Biosíntesis de Colesterol</a:t>
            </a:r>
            <a:br>
              <a:rPr sz="3600"/>
            </a:br>
            <a:r>
              <a:rPr b="1" lang="es-ES" sz="2000" spc="-1" strike="noStrike">
                <a:solidFill>
                  <a:srgbClr val="ffff00"/>
                </a:solidFill>
                <a:latin typeface="Arial Rounded MT Bold"/>
              </a:rPr>
              <a:t>I</a:t>
            </a:r>
            <a:r>
              <a:rPr b="1" lang="es-MX" sz="2000" spc="-1" strike="noStrike">
                <a:solidFill>
                  <a:srgbClr val="ffff00"/>
                </a:solidFill>
                <a:latin typeface="Arial Rounded MT Bold"/>
              </a:rPr>
              <a:t>) CONVERSIÓN DE ACETATOS EN MEVALONATO.</a:t>
            </a:r>
            <a:br>
              <a:rPr sz="3600"/>
            </a:br>
            <a:endParaRPr b="1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843" name="Grupo 31"/>
          <p:cNvGrpSpPr/>
          <p:nvPr/>
        </p:nvGrpSpPr>
        <p:grpSpPr>
          <a:xfrm>
            <a:off x="1076400" y="1677960"/>
            <a:ext cx="4480920" cy="1030320"/>
            <a:chOff x="1076400" y="1677960"/>
            <a:chExt cx="4480920" cy="1030320"/>
          </a:xfrm>
        </p:grpSpPr>
        <p:sp>
          <p:nvSpPr>
            <p:cNvPr id="844" name="Cuadro de texto 8"/>
            <p:cNvSpPr/>
            <p:nvPr/>
          </p:nvSpPr>
          <p:spPr>
            <a:xfrm>
              <a:off x="1076400" y="1859760"/>
              <a:ext cx="18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00"/>
                  </a:solidFill>
                  <a:latin typeface="Arial"/>
                </a:rPr>
                <a:t>Precurs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Autoforma 10"/>
            <p:cNvSpPr/>
            <p:nvPr/>
          </p:nvSpPr>
          <p:spPr>
            <a:xfrm>
              <a:off x="3236760" y="1677960"/>
              <a:ext cx="431280" cy="1030320"/>
            </a:xfrm>
            <a:custGeom>
              <a:avLst/>
              <a:gdLst>
                <a:gd name="textAreaLeft" fmla="*/ 275760 w 431280"/>
                <a:gd name="textAreaRight" fmla="*/ 431640 w 431280"/>
                <a:gd name="textAreaTop" fmla="*/ 26640 h 1030320"/>
                <a:gd name="textAreaBottom" fmla="*/ 1003680 h 103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Cuadro de texto 11"/>
            <p:cNvSpPr/>
            <p:nvPr/>
          </p:nvSpPr>
          <p:spPr>
            <a:xfrm>
              <a:off x="3541320" y="1902240"/>
              <a:ext cx="2016000" cy="459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292934"/>
                  </a:solidFill>
                  <a:latin typeface="Arial"/>
                </a:rPr>
                <a:t>2 Acetil-Co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7" name="Grupo 32"/>
          <p:cNvGrpSpPr/>
          <p:nvPr/>
        </p:nvGrpSpPr>
        <p:grpSpPr>
          <a:xfrm>
            <a:off x="5724360" y="1773360"/>
            <a:ext cx="3022920" cy="825480"/>
            <a:chOff x="5724360" y="1773360"/>
            <a:chExt cx="3022920" cy="825480"/>
          </a:xfrm>
        </p:grpSpPr>
        <p:sp>
          <p:nvSpPr>
            <p:cNvPr id="848" name="Cuadro de texto 4"/>
            <p:cNvSpPr/>
            <p:nvPr/>
          </p:nvSpPr>
          <p:spPr>
            <a:xfrm>
              <a:off x="6659640" y="1773360"/>
              <a:ext cx="2087640" cy="825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292934"/>
                  </a:solidFill>
                  <a:latin typeface="Arial"/>
                </a:rPr>
                <a:t>Acetoacetil-Co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Autoforma 14"/>
            <p:cNvSpPr/>
            <p:nvPr/>
          </p:nvSpPr>
          <p:spPr>
            <a:xfrm>
              <a:off x="5724360" y="1773360"/>
              <a:ext cx="792360" cy="360360"/>
            </a:xfrm>
            <a:custGeom>
              <a:avLst/>
              <a:gdLst>
                <a:gd name="textAreaLeft" fmla="*/ 138600 w 792360"/>
                <a:gd name="textAreaRight" fmla="*/ 574560 w 792360"/>
                <a:gd name="textAreaTop" fmla="*/ 48240 h 360360"/>
                <a:gd name="textAreaBottom" fmla="*/ 3121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0" name="Grupo 30"/>
          <p:cNvGrpSpPr/>
          <p:nvPr/>
        </p:nvGrpSpPr>
        <p:grpSpPr>
          <a:xfrm>
            <a:off x="539640" y="3044880"/>
            <a:ext cx="8064720" cy="1275480"/>
            <a:chOff x="539640" y="3044880"/>
            <a:chExt cx="8064720" cy="1275480"/>
          </a:xfrm>
        </p:grpSpPr>
        <p:pic>
          <p:nvPicPr>
            <p:cNvPr id="851" name="Imagen 12" descr="fi19p18"/>
            <p:cNvPicPr/>
            <p:nvPr/>
          </p:nvPicPr>
          <p:blipFill>
            <a:blip r:embed="rId1"/>
            <a:srcRect l="0" t="15842" r="0" b="61571"/>
            <a:stretch/>
          </p:blipFill>
          <p:spPr>
            <a:xfrm>
              <a:off x="4572000" y="3044880"/>
              <a:ext cx="4032360" cy="11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Cuadro de texto 15"/>
            <p:cNvSpPr/>
            <p:nvPr/>
          </p:nvSpPr>
          <p:spPr>
            <a:xfrm>
              <a:off x="539640" y="3213000"/>
              <a:ext cx="2087640" cy="825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292934"/>
                  </a:solidFill>
                  <a:latin typeface="Arial"/>
                </a:rPr>
                <a:t>Acetoacetil-Co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Línea 17"/>
            <p:cNvSpPr/>
            <p:nvPr/>
          </p:nvSpPr>
          <p:spPr>
            <a:xfrm>
              <a:off x="2843280" y="3573360"/>
              <a:ext cx="165744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Cuadro de texto 18"/>
            <p:cNvSpPr/>
            <p:nvPr/>
          </p:nvSpPr>
          <p:spPr>
            <a:xfrm>
              <a:off x="6588000" y="3860640"/>
              <a:ext cx="16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292934"/>
                  </a:solidFill>
                  <a:latin typeface="Arial"/>
                </a:rPr>
                <a:t>HMG-Co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5" name="Grupo 35"/>
          <p:cNvGrpSpPr/>
          <p:nvPr/>
        </p:nvGrpSpPr>
        <p:grpSpPr>
          <a:xfrm>
            <a:off x="1476360" y="4292640"/>
            <a:ext cx="3311640" cy="1579320"/>
            <a:chOff x="1476360" y="4292640"/>
            <a:chExt cx="3311640" cy="1579320"/>
          </a:xfrm>
        </p:grpSpPr>
        <p:sp>
          <p:nvSpPr>
            <p:cNvPr id="856" name="Línea 21"/>
            <p:cNvSpPr/>
            <p:nvPr/>
          </p:nvSpPr>
          <p:spPr>
            <a:xfrm flipH="1">
              <a:off x="3059280" y="4292640"/>
              <a:ext cx="1728720" cy="79200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Cuadro de texto 22"/>
            <p:cNvSpPr/>
            <p:nvPr/>
          </p:nvSpPr>
          <p:spPr>
            <a:xfrm>
              <a:off x="1476360" y="5229360"/>
              <a:ext cx="1582920" cy="64260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Arial"/>
                </a:rPr>
                <a:t>Cuerpos cetónic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8" name="Grupo 33"/>
          <p:cNvGrpSpPr/>
          <p:nvPr/>
        </p:nvGrpSpPr>
        <p:grpSpPr>
          <a:xfrm>
            <a:off x="4643280" y="4292640"/>
            <a:ext cx="3195720" cy="1008000"/>
            <a:chOff x="4643280" y="4292640"/>
            <a:chExt cx="3195720" cy="1008000"/>
          </a:xfrm>
        </p:grpSpPr>
        <p:sp>
          <p:nvSpPr>
            <p:cNvPr id="859" name="Línea 16"/>
            <p:cNvSpPr/>
            <p:nvPr/>
          </p:nvSpPr>
          <p:spPr>
            <a:xfrm>
              <a:off x="6227640" y="4292640"/>
              <a:ext cx="0" cy="10080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Cuadro de texto 20"/>
            <p:cNvSpPr/>
            <p:nvPr/>
          </p:nvSpPr>
          <p:spPr>
            <a:xfrm>
              <a:off x="6470640" y="4529160"/>
              <a:ext cx="1368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ff00"/>
                  </a:solidFill>
                  <a:latin typeface="Arial"/>
                </a:rPr>
                <a:t>HMG-CoA reduct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Cuadro de texto 23"/>
            <p:cNvSpPr/>
            <p:nvPr/>
          </p:nvSpPr>
          <p:spPr>
            <a:xfrm>
              <a:off x="4643280" y="4365720"/>
              <a:ext cx="1655640" cy="337320"/>
            </a:xfrm>
            <a:prstGeom prst="rect">
              <a:avLst/>
            </a:prstGeom>
            <a:solidFill>
              <a:srgbClr val="f6fa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292934"/>
                  </a:solidFill>
                  <a:latin typeface="Arial"/>
                </a:rPr>
                <a:t>2 NADPH + 2H</a:t>
              </a:r>
              <a:r>
                <a:rPr b="1" lang="es-ES" sz="1600" spc="-1" strike="noStrike" baseline="30000">
                  <a:solidFill>
                    <a:srgbClr val="292934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2" name="Grupo 36"/>
          <p:cNvGrpSpPr/>
          <p:nvPr/>
        </p:nvGrpSpPr>
        <p:grpSpPr>
          <a:xfrm>
            <a:off x="3995640" y="4653000"/>
            <a:ext cx="4824360" cy="1972440"/>
            <a:chOff x="3995640" y="4653000"/>
            <a:chExt cx="4824360" cy="1972440"/>
          </a:xfrm>
        </p:grpSpPr>
        <p:pic>
          <p:nvPicPr>
            <p:cNvPr id="863" name="Imagen 3" descr="fi19p18"/>
            <p:cNvPicPr/>
            <p:nvPr/>
          </p:nvPicPr>
          <p:blipFill>
            <a:blip r:embed="rId2"/>
            <a:srcRect l="0" t="68700" r="0" b="10637"/>
            <a:stretch/>
          </p:blipFill>
          <p:spPr>
            <a:xfrm>
              <a:off x="4427640" y="5373720"/>
              <a:ext cx="439236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Cuadro de texto 19"/>
            <p:cNvSpPr/>
            <p:nvPr/>
          </p:nvSpPr>
          <p:spPr>
            <a:xfrm>
              <a:off x="6659640" y="6165720"/>
              <a:ext cx="19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Arial"/>
                </a:rPr>
                <a:t>Mevalonat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Cuadro de texto 24"/>
            <p:cNvSpPr/>
            <p:nvPr/>
          </p:nvSpPr>
          <p:spPr>
            <a:xfrm>
              <a:off x="3995640" y="4941720"/>
              <a:ext cx="2016360" cy="337320"/>
            </a:xfrm>
            <a:prstGeom prst="rect">
              <a:avLst/>
            </a:prstGeom>
            <a:solidFill>
              <a:srgbClr val="f6fa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292934"/>
                  </a:solidFill>
                  <a:latin typeface="Arial"/>
                </a:rPr>
                <a:t>CoA-SH + 2NADP</a:t>
              </a:r>
              <a:r>
                <a:rPr b="1" lang="es-ES" sz="1600" spc="-1" strike="noStrike" baseline="30000">
                  <a:solidFill>
                    <a:srgbClr val="292934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Autoforma 25"/>
            <p:cNvSpPr/>
            <p:nvPr/>
          </p:nvSpPr>
          <p:spPr>
            <a:xfrm>
              <a:off x="5796000" y="4653000"/>
              <a:ext cx="288720" cy="360360"/>
            </a:xfrm>
            <a:custGeom>
              <a:avLst/>
              <a:gdLst>
                <a:gd name="textAreaLeft" fmla="*/ 38520 w 288720"/>
                <a:gd name="textAreaRight" fmla="*/ 250200 w 288720"/>
                <a:gd name="textAreaTop" fmla="*/ 63000 h 360360"/>
                <a:gd name="textAreaBottom" fmla="*/ 261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c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7" name="Grupo 37"/>
          <p:cNvGrpSpPr/>
          <p:nvPr/>
        </p:nvGrpSpPr>
        <p:grpSpPr>
          <a:xfrm>
            <a:off x="2771640" y="2924280"/>
            <a:ext cx="1656000" cy="1616400"/>
            <a:chOff x="2771640" y="2924280"/>
            <a:chExt cx="1656000" cy="1616400"/>
          </a:xfrm>
        </p:grpSpPr>
        <p:sp>
          <p:nvSpPr>
            <p:cNvPr id="868" name="Cuadro de texto 26"/>
            <p:cNvSpPr/>
            <p:nvPr/>
          </p:nvSpPr>
          <p:spPr>
            <a:xfrm>
              <a:off x="3059280" y="2924280"/>
              <a:ext cx="1368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ff00"/>
                  </a:solidFill>
                  <a:latin typeface="Arial"/>
                </a:rPr>
                <a:t>HMG-CoA sint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9" name="Grupo 29"/>
            <p:cNvGrpSpPr/>
            <p:nvPr/>
          </p:nvGrpSpPr>
          <p:grpSpPr>
            <a:xfrm>
              <a:off x="2771640" y="3644640"/>
              <a:ext cx="1440000" cy="896040"/>
              <a:chOff x="2771640" y="3644640"/>
              <a:chExt cx="1440000" cy="896040"/>
            </a:xfrm>
          </p:grpSpPr>
          <p:sp>
            <p:nvSpPr>
              <p:cNvPr id="870" name="Cuadro de texto 27"/>
              <p:cNvSpPr/>
              <p:nvPr/>
            </p:nvSpPr>
            <p:spPr>
              <a:xfrm>
                <a:off x="2771640" y="3860640"/>
                <a:ext cx="1440000" cy="680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292934"/>
                    </a:solidFill>
                    <a:latin typeface="Arial"/>
                  </a:rPr>
                  <a:t>Acetil-CoA+ H</a:t>
                </a:r>
                <a:r>
                  <a:rPr b="1" lang="es-ES" sz="1800" spc="-1" strike="noStrike" baseline="-25000">
                    <a:solidFill>
                      <a:srgbClr val="292934"/>
                    </a:solidFill>
                    <a:latin typeface="Arial"/>
                  </a:rPr>
                  <a:t>2</a:t>
                </a:r>
                <a:r>
                  <a:rPr b="1" lang="es-ES" sz="1800" spc="-1" strike="noStrike">
                    <a:solidFill>
                      <a:srgbClr val="292934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Línea 28"/>
              <p:cNvSpPr/>
              <p:nvPr/>
            </p:nvSpPr>
            <p:spPr>
              <a:xfrm flipV="1">
                <a:off x="3132000" y="3644640"/>
                <a:ext cx="432000" cy="144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2" name="Elipse 38"/>
          <p:cNvSpPr/>
          <p:nvPr/>
        </p:nvSpPr>
        <p:spPr>
          <a:xfrm>
            <a:off x="6084720" y="4724280"/>
            <a:ext cx="289080" cy="360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2 CuadroTexto"/>
          <p:cNvSpPr/>
          <p:nvPr/>
        </p:nvSpPr>
        <p:spPr>
          <a:xfrm>
            <a:off x="6782040" y="621036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34"/>
                </a:solidFill>
                <a:latin typeface="Arial Rounded MT Bold"/>
              </a:rPr>
              <a:t>Mevalon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1 CuadroTexto"/>
          <p:cNvSpPr/>
          <p:nvPr/>
        </p:nvSpPr>
        <p:spPr>
          <a:xfrm>
            <a:off x="1617120" y="480204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Arial"/>
              </a:rPr>
              <a:t>Mitocondr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2 CuadroTexto"/>
          <p:cNvSpPr/>
          <p:nvPr/>
        </p:nvSpPr>
        <p:spPr>
          <a:xfrm>
            <a:off x="1517040" y="229716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Arial"/>
              </a:rPr>
              <a:t>Citos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8T13:36:17Z</dcterms:created>
  <dc:creator>Fanny</dc:creator>
  <dc:description/>
  <dc:language>en-US</dc:language>
  <cp:lastModifiedBy>Preferred Customer</cp:lastModifiedBy>
  <dcterms:modified xsi:type="dcterms:W3CDTF">2012-05-08T19:14:48Z</dcterms:modified>
  <cp:revision>30</cp:revision>
  <dc:subject/>
  <dc:title>Metabolismo de los Isoprenoides</dc:title>
</cp:coreProperties>
</file>